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CEF5-54CF-46B0-9FC9-BB12FDCD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4700-93AA-420D-92D0-216D0C2A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12E9-E293-47E2-8CBF-10FC4A7C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5E97-6AC1-455C-A472-FD229A40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6100-CF9C-49A8-A03D-E70C9C91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A401-CFD7-447B-8F05-30AF0590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2C93-39CC-4C4A-9A8A-01769F1A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B9B6-96C8-4017-B16E-2B68347E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1C88-21DF-4AE8-89E6-0DC919CE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208B-AA08-460F-8A89-9749A36A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6678-C455-463D-8FE1-3E0DCB6A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A50C-24BE-42D2-A92A-EF260AE5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1918-F13C-4D90-8417-A9256BFF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4ED9-BE6D-4642-A939-819B0211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4714-711C-4A76-8AEB-49C6CFD8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F702-1CB0-4185-A423-9AA4E6A3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2E5E-9F97-458D-9ECD-89542F97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8919-C959-4B39-9321-29A3A7FF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5296-3BFD-445D-9BFB-21D5BD1D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124F-0A47-4F1D-8BD2-9CB51B88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896E-CD88-4B23-954A-7FFB732B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830C-B3B6-4880-BE93-55830FB4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830E-D5CD-4354-AAD5-9EF61162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6693-C5D8-4CBE-9513-580F13DC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68BB-69AB-4067-9F7D-87B2668F66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A059-D86A-4DC8-AB7D-5DB46112FD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ystems of Equations Re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 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981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2) Find the solution to the following system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2x –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x + y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both equations. Put both equations in slope-intercept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2x – 3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 = 2x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using slope and y-inter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981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aph the equations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2x –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 =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 =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2x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 =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the lines inters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 solu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6060960" y="1523880"/>
            <a:ext cx="2092320" cy="30481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1"/>
          <p:cNvSpPr/>
          <p:nvPr/>
        </p:nvSpPr>
        <p:spPr>
          <a:xfrm>
            <a:off x="533520" y="4979880"/>
            <a:ext cx="79246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tice that the slopes are the same with different y-intercepts. If you recognize this early, you don’t have to graph th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981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heck your answer!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lot to check…Just make sure you set up your equations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ouble-checked it and I did it right…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3" descr=""/>
          <p:cNvPicPr/>
          <p:nvPr/>
        </p:nvPicPr>
        <p:blipFill>
          <a:blip r:embed="rId1"/>
          <a:stretch/>
        </p:blipFill>
        <p:spPr>
          <a:xfrm>
            <a:off x="5943600" y="1828800"/>
            <a:ext cx="2092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is the solution of this system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72"/>
          <p:cNvSpPr/>
          <p:nvPr/>
        </p:nvSpPr>
        <p:spPr>
          <a:xfrm>
            <a:off x="1523880" y="167652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– y 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y = 6x 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3200400"/>
            <a:ext cx="51814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,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,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nitely many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rShape1"/>
          <p:cNvSpPr/>
          <p:nvPr/>
        </p:nvSpPr>
        <p:spPr>
          <a:xfrm rot="10800000">
            <a:off x="223560" y="509580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66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3"/>
          <p:cNvSpPr/>
          <p:nvPr/>
        </p:nvSpPr>
        <p:spPr>
          <a:xfrm>
            <a:off x="534960" y="3638520"/>
            <a:ext cx="3995640" cy="1085760"/>
          </a:xfrm>
          <a:prstGeom prst="rightArrow">
            <a:avLst>
              <a:gd name="adj1" fmla="val 47111"/>
              <a:gd name="adj2" fmla="val 8874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4"/>
          <p:cNvSpPr/>
          <p:nvPr/>
        </p:nvSpPr>
        <p:spPr>
          <a:xfrm>
            <a:off x="534960" y="4705200"/>
            <a:ext cx="3995640" cy="1086120"/>
          </a:xfrm>
          <a:prstGeom prst="rightArrow">
            <a:avLst>
              <a:gd name="adj1" fmla="val 47111"/>
              <a:gd name="adj2" fmla="val 8871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lving a system of equations by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phing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's summarize!  There ar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 ste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solving a system using a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600440" y="3849840"/>
            <a:ext cx="3946680" cy="663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4600440" y="4737240"/>
            <a:ext cx="3946680" cy="10220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4600440" y="2611440"/>
            <a:ext cx="3948120" cy="968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533520" y="2552760"/>
            <a:ext cx="3995640" cy="1085760"/>
          </a:xfrm>
          <a:prstGeom prst="rightArrow">
            <a:avLst>
              <a:gd name="adj1" fmla="val 47111"/>
              <a:gd name="adj2" fmla="val 88747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568440" y="2897280"/>
            <a:ext cx="38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tep 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 Graph both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568440" y="3983040"/>
            <a:ext cx="38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tep 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 Do the graphs inters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568440" y="5049720"/>
            <a:ext cx="38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tep 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 Check your 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4600440" y="2592360"/>
            <a:ext cx="396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 using slope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intercept or x- and y-intercepts. Be sure to use a ruler and graph pap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4600440" y="3830760"/>
            <a:ext cx="396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the solution!  LABEL the solu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4600440" y="4745160"/>
            <a:ext cx="396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titute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s into both equations to verify the point is a solution to both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imin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Content Placeholder 3" descr=""/>
          <p:cNvPicPr/>
          <p:nvPr/>
        </p:nvPicPr>
        <p:blipFill>
          <a:blip r:embed="rId1"/>
          <a:stretch/>
        </p:blipFill>
        <p:spPr>
          <a:xfrm>
            <a:off x="1236600" y="1600200"/>
            <a:ext cx="6670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imin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Content Placeholder 3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792468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imin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Content Placeholder 3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792504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imin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Content Placeholder 3" descr=""/>
          <p:cNvPicPr/>
          <p:nvPr/>
        </p:nvPicPr>
        <p:blipFill>
          <a:blip r:embed="rId1"/>
          <a:stretch/>
        </p:blipFill>
        <p:spPr>
          <a:xfrm>
            <a:off x="609480" y="1771560"/>
            <a:ext cx="754380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ystems of Inequali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Content Placeholder 3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237200" cy="2209680"/>
          </a:xfrm>
          <a:prstGeom prst="rect">
            <a:avLst/>
          </a:prstGeom>
          <a:ln w="0">
            <a:noFill/>
          </a:ln>
        </p:spPr>
      </p:pic>
      <p:sp>
        <p:nvSpPr>
          <p:cNvPr id="180" name="TextBox 4"/>
          <p:cNvSpPr/>
          <p:nvPr/>
        </p:nvSpPr>
        <p:spPr>
          <a:xfrm>
            <a:off x="533520" y="396252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member to solve for y.  Use our graphing calculator ap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4419720" y="2057400"/>
            <a:ext cx="37908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at is a system of equation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ystem of equations is when you have two or more equations using the same vari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lution to the system is the point that satisfie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equations. This point will be an ordered p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graphing, you will encounter three possi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tersecting Li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410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int where the lines intersect is you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lution of this graph is (1,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6095880" y="1600200"/>
            <a:ext cx="2467080" cy="2400480"/>
          </a:xfrm>
          <a:prstGeom prst="rect">
            <a:avLst/>
          </a:prstGeom>
          <a:ln w="0">
            <a:noFill/>
          </a:ln>
        </p:spPr>
      </p:pic>
      <p:sp>
        <p:nvSpPr>
          <p:cNvPr id="98" name="Line 5"/>
          <p:cNvSpPr/>
          <p:nvPr/>
        </p:nvSpPr>
        <p:spPr>
          <a:xfrm>
            <a:off x="5715000" y="2257560"/>
            <a:ext cx="149544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6"/>
          <p:cNvSpPr/>
          <p:nvPr/>
        </p:nvSpPr>
        <p:spPr>
          <a:xfrm>
            <a:off x="7267680" y="2732040"/>
            <a:ext cx="126720" cy="127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7469280" y="25290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2" descr=""/>
          <p:cNvPicPr/>
          <p:nvPr/>
        </p:nvPicPr>
        <p:blipFill>
          <a:blip r:embed="rId1"/>
          <a:stretch/>
        </p:blipFill>
        <p:spPr>
          <a:xfrm>
            <a:off x="5762520" y="1828800"/>
            <a:ext cx="2467080" cy="1809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arallel Li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724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lines never intersec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lines never cross, there is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 S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lines have the same slope with different y-interce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V="1">
            <a:off x="6172200" y="2743200"/>
            <a:ext cx="0" cy="56664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 flipH="1" flipV="1">
            <a:off x="6995880" y="2390760"/>
            <a:ext cx="14040" cy="6271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3"/>
          <p:cNvSpPr/>
          <p:nvPr/>
        </p:nvSpPr>
        <p:spPr>
          <a:xfrm>
            <a:off x="6172200" y="2743200"/>
            <a:ext cx="4572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7010280" y="2438280"/>
            <a:ext cx="4273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19"/>
          <p:cNvGraphicFramePr/>
          <p:nvPr/>
        </p:nvGraphicFramePr>
        <p:xfrm>
          <a:off x="5791320" y="3692520"/>
          <a:ext cx="2361960" cy="205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Object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3692520"/>
                    <a:ext cx="236196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inciding Li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724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lines are the sa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lines are on top of each other, there are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INITELY MANY SOLUTIONS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inciding lines have the same slope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-interce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9"/>
          <p:cNvGraphicFramePr/>
          <p:nvPr/>
        </p:nvGraphicFramePr>
        <p:xfrm>
          <a:off x="5715000" y="3809880"/>
          <a:ext cx="2362320" cy="14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809880"/>
                    <a:ext cx="2362320" cy="14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10" descr=""/>
          <p:cNvPicPr/>
          <p:nvPr/>
        </p:nvPicPr>
        <p:blipFill>
          <a:blip r:embed="rId3"/>
          <a:stretch/>
        </p:blipFill>
        <p:spPr>
          <a:xfrm>
            <a:off x="5638680" y="1752480"/>
            <a:ext cx="2467080" cy="1809720"/>
          </a:xfrm>
          <a:prstGeom prst="rect">
            <a:avLst/>
          </a:prstGeom>
          <a:ln w="0">
            <a:noFill/>
          </a:ln>
        </p:spPr>
      </p:pic>
      <p:sp>
        <p:nvSpPr>
          <p:cNvPr id="115" name="Line 11"/>
          <p:cNvSpPr/>
          <p:nvPr/>
        </p:nvSpPr>
        <p:spPr>
          <a:xfrm flipV="1">
            <a:off x="6340320" y="1904760"/>
            <a:ext cx="1051200" cy="152388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is the solution of the system graphed below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1571760" y="1523880"/>
            <a:ext cx="2466720" cy="1809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3657600"/>
            <a:ext cx="4876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, 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2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tely many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rShape1"/>
          <p:cNvSpPr/>
          <p:nvPr/>
        </p:nvSpPr>
        <p:spPr>
          <a:xfrm rot="10800000">
            <a:off x="253800" y="3787560"/>
            <a:ext cx="253800" cy="253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66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981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1) Find the solution to the following system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+ y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- y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both equations. Put both equations in slope-inter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using slope and y-inter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33520" y="4038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y = -2x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876920" y="4038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y = x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981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aph the equations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the lines inters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2,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5259240" y="1793880"/>
            <a:ext cx="2467080" cy="2409840"/>
          </a:xfrm>
          <a:prstGeom prst="rect">
            <a:avLst/>
          </a:prstGeom>
          <a:ln w="0">
            <a:noFill/>
          </a:ln>
        </p:spPr>
      </p:pic>
      <p:sp>
        <p:nvSpPr>
          <p:cNvPr id="127" name="Oval 8"/>
          <p:cNvSpPr/>
          <p:nvPr/>
        </p:nvSpPr>
        <p:spPr>
          <a:xfrm>
            <a:off x="6019920" y="2085840"/>
            <a:ext cx="1015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9"/>
          <p:cNvSpPr/>
          <p:nvPr/>
        </p:nvSpPr>
        <p:spPr>
          <a:xfrm>
            <a:off x="6019920" y="3871800"/>
            <a:ext cx="1015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0"/>
          <p:cNvSpPr/>
          <p:nvPr/>
        </p:nvSpPr>
        <p:spPr>
          <a:xfrm>
            <a:off x="6846840" y="3276720"/>
            <a:ext cx="1015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 rot="3325800">
            <a:off x="5846040" y="220392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x + y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 rot="19418400">
            <a:off x="5411880" y="358740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– y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2"/>
          <a:stretch/>
        </p:blipFill>
        <p:spPr>
          <a:xfrm>
            <a:off x="1952640" y="1731960"/>
            <a:ext cx="193356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981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heck your answer!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check your answer, plug the point back into both equ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x + y = 4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(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=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 - y =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(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=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5838840" y="1828800"/>
            <a:ext cx="2467080" cy="2409840"/>
            <a:chOff x="5838840" y="1828800"/>
            <a:chExt cx="2467080" cy="2409840"/>
          </a:xfrm>
        </p:grpSpPr>
        <p:pic>
          <p:nvPicPr>
            <p:cNvPr id="136" name="Picture 4" descr=""/>
            <p:cNvPicPr/>
            <p:nvPr/>
          </p:nvPicPr>
          <p:blipFill>
            <a:blip r:embed="rId1"/>
            <a:stretch/>
          </p:blipFill>
          <p:spPr>
            <a:xfrm>
              <a:off x="5838840" y="1828800"/>
              <a:ext cx="2467080" cy="24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Oval 5"/>
            <p:cNvSpPr/>
            <p:nvPr/>
          </p:nvSpPr>
          <p:spPr>
            <a:xfrm>
              <a:off x="6600960" y="2085840"/>
              <a:ext cx="101520" cy="90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6"/>
            <p:cNvSpPr/>
            <p:nvPr/>
          </p:nvSpPr>
          <p:spPr>
            <a:xfrm>
              <a:off x="6600960" y="3871800"/>
              <a:ext cx="101520" cy="90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7"/>
            <p:cNvSpPr/>
            <p:nvPr/>
          </p:nvSpPr>
          <p:spPr>
            <a:xfrm>
              <a:off x="7427880" y="3276720"/>
              <a:ext cx="101520" cy="9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CorShape1"/>
          <p:cNvSpPr/>
          <p:nvPr/>
        </p:nvSpPr>
        <p:spPr>
          <a:xfrm rot="10800000">
            <a:off x="3200040" y="412740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66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orShape1"/>
          <p:cNvSpPr/>
          <p:nvPr/>
        </p:nvSpPr>
        <p:spPr>
          <a:xfrm rot="10800000">
            <a:off x="3124080" y="5410080"/>
            <a:ext cx="29232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66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4114080" y="5181480"/>
            <a:ext cx="40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ice job…let’s try anoth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15:07:53Z</dcterms:created>
  <dc:creator>Skip Tyler</dc:creator>
  <dc:description/>
  <dc:language>en-US</dc:language>
  <cp:lastModifiedBy>Cynthia</cp:lastModifiedBy>
  <dcterms:modified xsi:type="dcterms:W3CDTF">2015-03-01T20:43:45Z</dcterms:modified>
  <cp:revision>37</cp:revision>
  <dc:subject/>
  <dc:title>Solve Systems by Graphing</dc:title>
</cp:coreProperties>
</file>